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301-EBB7-41F2-A1A5-D6D971A2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8F45-899C-4445-8B1B-979BBACD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776C-468E-42B5-96B7-E1D64624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244-5142-4BD7-B1D8-6DBDC6C8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4C2C4-508B-44F0-93A8-44E15BD0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89D95-8759-4094-BBB9-BDBCCA8A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9A012-A399-4A5A-97A1-74C69451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A4B24-3F8B-4FE1-8C1A-C90F3049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5324F-E576-47CE-BCA1-BA5A74C0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C5BCC-B37F-49B7-8DB2-C8836815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0FA99-7701-4E07-ADDF-BF6B1D19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9BF-A524-4D2D-9509-9170DAF1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433BE-B94C-4819-B495-A7D7A0CB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7A25C-0241-4E4B-8F5C-866C6E5B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03920-D829-4ADF-82E1-6972F32F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169FA-BD74-4997-ACC3-6EA3717E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31CBC-61A0-4EE7-8E70-8345F526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5A9-6328-4856-BCFF-5C4E80A4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C591-D8E1-42E2-9014-970870C7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2A9-88F7-4F11-985B-E491287A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67B-BB48-4F2B-8E94-8A143665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23B-2E14-486C-B493-13C3589D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E0D-4358-4222-A65E-16120ECF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7F6-8EE6-4591-99F1-22A32199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2538-96F2-4C7D-9822-6563DB74C0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3A41-F3E1-41C2-8477-3008B3452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studentsoftheworld.info/sites/nat/img/15410_050620_penguins_vmed.widec&amp;imgrefurl=http://www.studentsoftheworld.info/sites/nat/15410.php&amp;h=442&amp;w=298&amp;sz=19&amp;hl=en&amp;start=4&amp;tbnid=ILJ5YFhOz5_PAM:&amp;tbnh=127&amp;tbnw=86&amp;prev=/images%3Fq%3Dpenguins%26gbv%3D2%26hl%3Den%26sa%3D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lettersfromnyc.mu.nu/archives/Emperor%2520Penguins.JPG&amp;imgrefurl=http://lettersfromnyc.mu.nu/archives/205988.php&amp;h=365&amp;w=471&amp;sz=32&amp;hl=en&amp;start=19&amp;tbnid=cj49_kubk-OWuM:&amp;tbnh=100&amp;tbnw=129&amp;prev=/images%3Fq%3Dpenguins%26gbv%3D2%26hl%3Den%26sa%3D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pbs.org/wnet/nature/penguins/images/wallpaper/penguins_small.jpg&amp;imgrefurl=http://www.pbs.org/wnet/nature/penguins/&amp;h=600&amp;w=800&amp;sz=105&amp;hl=en&amp;start=33&amp;tbnid=7hLE7XoBUTAAzM:&amp;tbnh=107&amp;tbnw=143&amp;prev=/images%3Fq%3Dpenguins%26start%3D20%26gbv%3D2%26ndsp%3D20%26hl%3Den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rosssea.info/pix/big/King-Penguins.jpg&amp;imgrefurl=http://www.rosssea.info/sub-antarctic-bird-life.html&amp;h=876&amp;w=690&amp;sz=129&amp;hl=en&amp;start=105&amp;tbnid=uCpgdLb8PSNSgM:&amp;tbnh=146&amp;tbnw=115&amp;prev=/images%3Fq%3Dpenguins%26start%3D100%26gbv%3D2%26ndsp%3D20%26hl%3Den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phy.bris.ac.uk/news/penguins4.jpg&amp;imgrefurl=http://www.phy.bris.ac.uk/news/leverhulme_grant.html&amp;h=2000&amp;w=3008&amp;sz=699&amp;hl=en&amp;start=126&amp;tbnid=K_wMre0LnoFV2M:&amp;tbnh=100&amp;tbnw=150&amp;prev=/images%3Fq%3Dpenguins%26start%3D120%26gbv%3D2%26ndsp%3D20%26hl%3Den%26sa%3DN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ngui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Jayla Smul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838080"/>
            <a:ext cx="10666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 you like  penguins? It’s so fun to read  about  them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62520" y="3352680"/>
            <a:ext cx="16761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nguins  live   in  Antarctica, it is the coldest plac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 are  hundreds  of  plump  penguins  in  Antarct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 penguins  heads   are   called   rooke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3657600"/>
            <a:ext cx="1361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t’s much too cold for plants to grow in icy Antarctic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arents take turns watching the eggs  until  the  chicks  are  bor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90920" y="3276720"/>
            <a:ext cx="1361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l the chicks want to do is eat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1981080"/>
            <a:ext cx="1781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at’s what I know about penguin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666880"/>
            <a:ext cx="16002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17:07:23Z</dcterms:modified>
  <cp:revision>4</cp:revision>
  <dc:subject/>
  <dc:title>Animal Name</dc:title>
</cp:coreProperties>
</file>